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148-2B82-46DA-96FB-B69EBE1D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C0BF-F66D-45FE-A503-33A4BBB7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85C6-86F7-4544-904E-248C1FD9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F5D9-E0F7-4737-B04A-004E4030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17DC-A08F-4D90-A943-AD11350C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400C-4E1B-4561-A0DA-5C3DD4D2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1BD5-15BC-4DFB-BE8B-1E65D338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31B4-34E0-4298-BBB5-9080B11F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A0A3-3540-4D35-8448-1FE40E9D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BE3E-BE3C-4F58-8215-196DF088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E6C5-D87D-44DC-893F-E3543B91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710A-D07B-454E-AE14-9860395E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0346-29F4-4F66-A81D-38E7EB79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34BF-52C2-4D84-8453-5749C2EA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DEF6-1400-4595-850A-BB973FBF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D7E4-3B08-4A6C-B471-11EC46A5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425A-C8DF-449C-B3A9-48B8794B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97537-00C4-4773-9A8F-5D619FFE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BB0F2-26C1-4DEB-A15D-315DB33D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54207-E1D7-4517-A01A-F125F1E3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5CA15-58DC-4312-9509-50640E5D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82029-3E65-428F-9555-5D6AB887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809F-183D-4766-83CE-22523512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1D273-7867-492F-8AE3-B7C9813C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612D7-9378-4B8C-A805-3A8F7922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5F808-BBE0-4505-8854-3C4C6BE1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653F0-8C1F-4239-8E8E-064AAFE9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0F67C-A190-4DE9-9C36-D38AC2E6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49F27-7E41-4419-BA03-D206EF75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66400-3D31-4C9B-B918-FADC3A68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0CFA8-6939-4819-A180-E3F4808E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619B5-716C-48ED-BEFE-109D9F23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4842E-446B-4E7C-B624-305927FA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83DD-5463-450A-ABCC-2B932965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90C0B-25B8-407C-8A53-BF318BD7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F3EB2-BF48-46BF-96A6-CF66D176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AC92B-5BAE-44D0-B2D5-FDB55BF1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84F1D-967F-4A94-9D04-B0D6AAD7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7D573-7217-41BB-AD6C-E75576B3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F1017-3AB0-4603-9228-2CE6A584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94C30-3B97-4C7D-A798-40B8C1F2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E2E30-84C3-420B-8F84-790E2EB6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89AD2-F731-4D33-9214-2A0B0DDB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B394A-88C0-4250-B494-33BDE0A9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3D9E-9F61-4063-95D6-6C8CCF97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5A00E-3017-44EF-8861-A10236DE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114F5-A47E-4DC2-9D51-37604281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171F7-0423-4BA2-8E54-92663510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41CC6-8CAE-499B-9706-C2F570CD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7C145-A17C-4C9B-941D-A04051FA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8DA7A-1785-4129-97F7-7ECF9DCA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86AEF-36E5-4835-A2DC-A0B7B876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6F296-C92C-43A7-B49D-4E95CAF1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7CDD9-4197-4772-B7D4-B9797B9D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95F7D-C164-4777-AB15-72923353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CDB-E4CA-4663-BDF6-6A36735D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7568C-64C6-448F-BAA0-E9512386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3F19-01BD-48ED-A594-09608F00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A92-4363-4F48-96D6-05F103D0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43B2-674F-410D-8964-6ABF1C8E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377B-0A2F-4FDB-83AD-63CC9ECC0A3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F7F9-8553-45D2-83D8-CEC95385E67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C61E-D08D-4027-93A8-760AF94EB3A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AC14-28F5-4C41-B159-ADCC0105091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BD24-B5C1-4709-970B-FE615FEB5AA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96464"/>
                </a:solidFill>
                <a:latin typeface="Cambria"/>
              </a:rPr>
              <a:t>Интегрисане академске студије фармације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96464"/>
                </a:solidFill>
                <a:latin typeface="Cambria"/>
              </a:rPr>
              <a:t>Увод у фармацеутску праксу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Систем здравствене заштите у Србији</a:t>
            </a: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2400"/>
            </a:b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(Организација примарне, секундарне и терцијарне здравствене заштите, видови здравственог осигурања, начин уговарања здравствених услуг</a:t>
            </a:r>
            <a:r>
              <a:rPr b="0" lang="sr-CS" sz="16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 са здравственим установама, принципи упућивања пацијената) </a:t>
            </a: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CS" sz="3200" spc="-1" strike="noStrike">
                <a:solidFill>
                  <a:srgbClr val="696464"/>
                </a:solidFill>
                <a:latin typeface="Calibri"/>
              </a:rPr>
              <a:t>Начело правичности здравствене заштите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Начело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правичности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здравствене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заштите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остваруј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абрано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дискриминациј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илико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ужањ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дравствен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аштит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основ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рас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л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тарост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националн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ипадност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оцијалн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рекл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вероисповест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литичк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л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друг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убеђењ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мовн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тањ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култур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језик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врст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болест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сихичк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л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телесн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нвалидитета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sr-CS" sz="3200" spc="-1" strike="noStrike">
                <a:solidFill>
                  <a:srgbClr val="696464"/>
                </a:solidFill>
                <a:latin typeface="Calibri"/>
              </a:rPr>
              <a:t>Начело приступачности здравствене заштите</a:t>
            </a:r>
            <a:br>
              <a:rPr sz="36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Начело</a:t>
            </a:r>
            <a:r>
              <a:rPr b="1" lang="vi-V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приступачности</a:t>
            </a:r>
            <a:r>
              <a:rPr b="1" lang="vi-V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здравствене</a:t>
            </a:r>
            <a:r>
              <a:rPr b="1" lang="vi-V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заштите</a:t>
            </a:r>
            <a:r>
              <a:rPr b="1" lang="vi-V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остваруј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с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обезбеђивање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одговарајућ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дравствен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аштит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грађаним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Републик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кој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ј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физичк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географск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економск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доступн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односно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културно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прихватљив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посебно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дравствен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аштит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н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примарно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нивоу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Начело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свеобухватности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здравствене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заштите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Начело</a:t>
            </a:r>
            <a:r>
              <a:rPr b="1" lang="vi-V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свеобухватности</a:t>
            </a:r>
            <a:r>
              <a:rPr b="1" lang="vi-V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здравствене</a:t>
            </a:r>
            <a:r>
              <a:rPr b="1" lang="vi-V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заштите</a:t>
            </a:r>
            <a:r>
              <a:rPr b="1" lang="vi-V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остваруј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с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укључивање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св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грађан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Републик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систе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дравствен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аштит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уз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примен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обједињен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мер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поступак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дравствен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аштит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кој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обухватај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промоциј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дрављ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превенциј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болест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н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сви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нивоим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ран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дијагноз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лечењ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рехабилитациј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Начело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континуираности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здравствене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заштите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Начело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континуираности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здравствене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заштит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остваруј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укупно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организацијо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исте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дравствен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аштит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кој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мор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бит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функционалн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везан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усклађен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нивои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од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имарн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ек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екундарн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д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терцијарн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ниво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дравствен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аштит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кој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уж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непрекидн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дравствен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аштит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грађани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Републик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вако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животно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доб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Начело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сталног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унапређења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квалитета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здравствене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заштите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Начело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сталног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унапређења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квалитета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здравствене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заштите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остваруј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мера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активности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који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клад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авремени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достигнући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медицинск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наук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акс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већавај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могућност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вољн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сход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мањивањ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ризик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других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нежељених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следиц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дрављ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дравствен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тањ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јединц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аједниц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целин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Начело ефикасности здравствене заштите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Начело ефикасности здравствене заштите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остварује се постизањем најбољих могућих резултата у односу на расположива финансијска средства, односно постизањем највишег нивоа здравствене заштите уз најнижи утрошак средстава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96464"/>
                </a:solidFill>
                <a:latin typeface="Calibri"/>
              </a:rPr>
              <a:t>ЈАВНО ЗДРАВЉ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'‘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Н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аука и уметност </a:t>
            </a:r>
            <a:r>
              <a:rPr b="1" i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превенције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 болести, </a:t>
            </a:r>
            <a:r>
              <a:rPr b="0" i="1" lang="sr-CS" sz="2600" spc="-1" strike="noStrike">
                <a:solidFill>
                  <a:srgbClr val="000000"/>
                </a:solidFill>
                <a:latin typeface="Cambria"/>
              </a:rPr>
              <a:t>продуживања живо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та и </a:t>
            </a:r>
            <a:r>
              <a:rPr b="1" i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унапређења менталног и физичког здравља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 </a:t>
            </a:r>
            <a:r>
              <a:rPr b="1" i="1" lang="sr-CS" sz="2600" spc="-1" strike="noStrike">
                <a:solidFill>
                  <a:srgbClr val="ff0000"/>
                </a:solidFill>
                <a:latin typeface="Cambria"/>
              </a:rPr>
              <a:t>ефикасности кроз организоване напоре заједнице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''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   “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Вештина и научни приступ у спречавању болести, продужавању животног века и промовисању здравља путем организованог напора друштва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96464"/>
                </a:solidFill>
                <a:latin typeface="Calibri"/>
              </a:rPr>
              <a:t>ЈАВНО ЗДРАВЉЕ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Јавно здравље укључује </a:t>
            </a:r>
            <a:r>
              <a:rPr b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програме и активности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ријентисане ка заједници, било да доприносе свима (на пример, чист ваздух и вода), или само појединцима (на пример: скрининг програми, саветовалишта за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превенцију болести, контролу хроничних болести...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)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96464"/>
                </a:solidFill>
                <a:latin typeface="Calibri"/>
              </a:rPr>
              <a:t>ЈАВНО ЗДРАВЉЕ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Области деловања јавног здравља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Физичко, ментално и социјално здравље становништв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Промоција здравља и превенција боле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Животна средина и здравље становништв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Радна околина и здравље становништв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Организација и функционисање здравственог систем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Функционисање здрваственог система у кризними ванредним условим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НОСИОЦИ АКТИВНОСТИ УЈАВНОМ ЗДРАВЉУ СУ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Perpetua"/>
                <a:ea typeface="Arial"/>
              </a:rPr>
              <a:t>ИНСТИТУТИ И ЗАВОДИ ЗА ЈАВНО ЗДРАВЉЕ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 КОЈИ ПЛАНИРАЈУ, ОРГАНИЗУЈУ, СПРОВОДЕ И ВРЕДНУЈУ АКТИВНОСТИ У ОБЛАСТИ ЈАВНОГ ЗДРАВЉА И СТРУЧНО ПОВЕЗУЈУ ОСТАЛЕ УЧЕСНИКЕ ЗДРАВСТВЕНОГ СИСТЕМА У СПРОВОЂЕЊУ ОВИХ АКТИВНОСТИ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Финансирање здравствене заштит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 u="sng">
                <a:solidFill>
                  <a:srgbClr val="ff0000"/>
                </a:solidFill>
                <a:uFillTx/>
                <a:latin typeface="Cambria"/>
              </a:rPr>
              <a:t>Републички завод за здравствено осигурање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, са филијалама у сваком граду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иходи завода: </a:t>
            </a:r>
            <a:r>
              <a:rPr b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од обавезног доприноса за здравствено осигурање запослених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Финансирање здравствених установа: кроз уговарање одређеног броја услуг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Систем здравствене заштит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истем здравствене заштите Републике Србије представља свеобухватани орагнизован систем који чине више различитих елемената који су интегрисани у једну целину у којој се обавља здравствена делатност на различитим нивоима здравствене заштите са јасно дефинисаним циљевима а чије функционисање је уређено Законом о здравственој заштити Републике Србије који је садржан у Службеном гласнику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Финансирање здравствене заштит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оцес финансирања здравственог система се остварује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као резултат садејства прикупљања средстава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формирањем фондова који та средства алоцирају ка одређеним сегментима здравственог система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оцеси прикупљања средстава подразумевају средства која се добијају кроз систем наплате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обавезног здравственог осигурања појединца, послодавца и друштва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Финансирање здравствене заштит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Након те фазе прикупљена средства  се распоређују према корисницима тј осигураним лицима који могу да користе здравствене услуге на основу здр.осигурања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Прикупљена средства се корист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према принципу солидарности и узајамности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односно у зависности од висине месечних примања издвајају се различита средства а користеих сви према потребама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Овакав вид финансирањаје типичан за државни сектор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Фармацеутска здравствена делатност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д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mbria"/>
              </a:rPr>
              <a:t>фармацеутском здравственом делатношћу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 подразумева 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Cambria"/>
              </a:rPr>
              <a:t>Одговорно снадбевање лековима и другим медицинским средствима становништва, здравствених установа и приватне праксе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Cambria"/>
              </a:rPr>
              <a:t>Обезбеђивање рационалне фармакотерапије ради лечења, побољшања и унапређивања квалитета живота оболелих коју спроводи дипломирани фармацеут, односно дипломирани фармацеут са одговарајућом специјализацијом у сарадњи са осталим здравственим радницима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Фармацеутска здравствена делатност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600" spc="-1" strike="noStrike">
                <a:solidFill>
                  <a:srgbClr val="000000"/>
                </a:solidFill>
                <a:latin typeface="Cambria"/>
              </a:rPr>
              <a:t>Континуирани процес унапређења употребе лекова и медицинских средстав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600" spc="-1" strike="noStrike">
                <a:solidFill>
                  <a:srgbClr val="000000"/>
                </a:solidFill>
                <a:latin typeface="Cambria"/>
              </a:rPr>
              <a:t>Стални надзор примене лекова и детекција нежељених ефеката лекова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Систем здравствене заштите у Србиј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Здравствена делатност се спроводи у здравственим установама које могу бити основан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у јавној или приватној својини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а у оквиру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примарне, секундарне и  терцијарне здравствене заштите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Здравствене установе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су: дом здравља, здравствена установа поликлиника, апотекарска установа,болница, здравствени центар, завод, завод за јавно здравље, клиника, институт,  клиничко болнички центар, универзитетски клинички центар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Примарна, секундарна и терцијарна здравствена заштита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Примарна здравствена заштита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 – установе у којима грађани могу да оду без упута: дом здравља, апотека, студентска поликлиника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завод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 за хитну медицинску помоћ, геронтологију, стоматологију, плућне болести и туберкулозу ..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Дом здрављ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Дом здравља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Arial"/>
              </a:rPr>
              <a:t>- з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дравствена установа која обавља здравствену делатност на нивоу примарне здрваствене заштите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Превентивна здравствена заштита за све категорије становништв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Здравствена заштита деце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Здравствена заштита жен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Здравствена заштита из области опште медицине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Здравствена заштита из области кућног лечења..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Здравствена заштита из области денталне медицине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Лабораторијска и друга дијагностик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Здравствена заштита из области медицине рад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Специјалистичко консултативна  делатност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Апотекарска делатност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Примарна здравствена зашти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Циљеви здравствене заштите на примарном нивоу се остварују кроз :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1. систематске прегледе, контролне прегледе, вакцинацију и ревакцинацију 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2. систематске прегледе, контролне прегледе, прегледе у вези са планирањем породице, циљане прегледе на рано откривање рака грлића материце и дојке, прегледе током трудноће и у постпарталном периоду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3. с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стематске стоматолошке прегледе, контролне стоматолошке прегледе, скрининг ортодонтских неправилности и скрининг ризика на парадонтопатију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Примарна здравствена зашти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Специјалистичко консултативна  делатнос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еглед лекара специјалиста (офталмолог, оториноларинголог, интерниста, неуролог психијатар, пнеумофтизиолог, физикална медицина и рехабилитација): први и контролни преглед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sr-CS" sz="2200" spc="-1" strike="noStrike">
                <a:solidFill>
                  <a:srgbClr val="696464"/>
                </a:solidFill>
                <a:latin typeface="Calibri"/>
              </a:rPr>
              <a:t>Примарна здравствена заштита</a:t>
            </a:r>
            <a:br>
              <a:rPr sz="2200"/>
            </a:br>
            <a:r>
              <a:rPr b="0" lang="en-US" sz="2200" spc="-1" strike="noStrike">
                <a:solidFill>
                  <a:srgbClr val="696464"/>
                </a:solidFill>
                <a:latin typeface="Franklin Gothic Book"/>
              </a:rPr>
              <a:t>Лабораторијска и друга дијагностика</a:t>
            </a:r>
            <a:br>
              <a:rPr sz="3600"/>
            </a:br>
            <a:endParaRPr b="0" lang="en-US" sz="2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Лабораторијске анализе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Cambria"/>
              </a:rPr>
              <a:t>хематолошки параметри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(еритроцити, хемоглобин, хематокрит, леукоцити, тромбоцити, седиментација, леукоцитарна формула, протромбинско време, време крварења, факори коагулације, ретикулоцити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Cambria"/>
              </a:rPr>
              <a:t>Биохемијске анализе крви и урина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(протеинограм, уреа, креатинин у крви, укупни билирубин, трансаминазе, липидограм, алкална,кисела фосфатаза, шећер у крви, ОГТТ, гвожђе, јонограм,фибриноген, гликолизирани хемоглобин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Cambria"/>
              </a:rPr>
              <a:t>Микробиолошка лабораториј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Franklin Gothic Book"/>
              </a:rPr>
              <a:t>Систем здравствене заштите у Србији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акон о здравственој заштити Републике Србије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акон уређује систем здравствене заштите, организацију здравствене бриге свих грађана, права и обавезе пацијената, заштиту страних лица, надзор над спровођењем овог закона..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У оквиру здрваственог система РС здравствена заштита је примарно орјентисана ка пацијенту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sr-CS" sz="2500" spc="-1" strike="noStrike">
                <a:solidFill>
                  <a:srgbClr val="696464"/>
                </a:solidFill>
                <a:latin typeface="Calibri"/>
              </a:rPr>
              <a:t>Примарна здравствена заштита</a:t>
            </a:r>
            <a:br>
              <a:rPr sz="2500"/>
            </a:br>
            <a:r>
              <a:rPr b="0" lang="en-US" sz="2500" spc="-1" strike="noStrike">
                <a:solidFill>
                  <a:srgbClr val="696464"/>
                </a:solidFill>
                <a:latin typeface="Franklin Gothic Book"/>
              </a:rPr>
              <a:t>Лабораторијска и друга дијагностика</a:t>
            </a:r>
            <a:br>
              <a:rPr sz="2500"/>
            </a:br>
            <a:endParaRPr b="0" lang="en-US" sz="2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Дијагно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с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тичке процедуре у оквиру дома здравља: рендген (срца, плућа,коштано мишићног система, графија гастродуоденума са контрастом.. ) и ултразвучна дијагностика (штитаста жлезда, срце,бубрези, крвни судови, кукови...)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sr-CS" sz="2800" spc="-1" strike="noStrike">
                <a:solidFill>
                  <a:srgbClr val="696464"/>
                </a:solidFill>
                <a:latin typeface="Calibri"/>
              </a:rPr>
              <a:t>Примарна здравствена заштита</a:t>
            </a:r>
            <a:br>
              <a:rPr sz="2800"/>
            </a:b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 Апотекарска делатност 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Апотекарска установа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дистрибуира лекове које финансира РЗЗО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(тзв. “позитивна листа”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mbria"/>
              </a:rPr>
              <a:t>прикупља партиципацију од пацијенат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mbria"/>
              </a:rPr>
              <a:t>продаје лекове са “негативне листе” пацијентим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Секундарна здравствена зашти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пецијалистичко – консултативна заштита (</a:t>
            </a:r>
            <a:r>
              <a:rPr b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сложенија него на примарном нивоу, обухвата и процесе лечења и рехабилитације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Болничко здравствену делатност: дијагностика,лечење и рехабилитација и здравствена нега у болници, фармацеутска делатност у болничкој апотеци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Секундарни ниво здравствене заштит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пшта хирургиј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гинекологија са акушерством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нтерна медицин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нфектологиј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дерматовенерологиј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едијатриј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Секундарна здравствена зашти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пште болниц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пецијалне болниц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Терцијарна здравствена зашти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ајсложенији вид здравствене заштите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стварује се кроз делатност 4 клиничка центр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Терцијарна здравствена зашти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ужа </a:t>
            </a:r>
            <a:r>
              <a:rPr b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најсложеније облике здравствене заштите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, специјалистичко консултативне и болничке здравствене делатности, као и </a:t>
            </a:r>
            <a:r>
              <a:rPr b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научно истраживачку и образовну делатнос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Терцијарна здравствена зашти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линик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линички центар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нститу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линичко болнички центар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Службе института или завода за заштиту здрављ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микробиологиј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епидемиологиј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оцијална медицин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лужба хигијене (контрола исправности воде и намирница, услова у школама, вртићима, итд.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96464"/>
                </a:solidFill>
                <a:latin typeface="Cambria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Calibri"/>
              </a:rPr>
              <a:t>Принципи добре комуникације фармацеута са пацијентим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Franklin Gothic Book"/>
              </a:rPr>
              <a:t>Систем здравствене заштите у Србији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сновни циљ здравствене заштите у  Србији је </a:t>
            </a:r>
            <a:r>
              <a:rPr b="1" lang="sr-CS" sz="2800" spc="-1" strike="noStrike" u="sng">
                <a:solidFill>
                  <a:srgbClr val="ff0000"/>
                </a:solidFill>
                <a:uFillTx/>
                <a:latin typeface="Cambria"/>
              </a:rPr>
              <a:t>да очување здравља становништва републике Србије буде на највишем нивоу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дравствена заштита подразумева </a:t>
            </a:r>
            <a:r>
              <a:rPr b="1" lang="sr-CS" sz="2800" spc="-1" strike="noStrike" u="sng">
                <a:solidFill>
                  <a:srgbClr val="ff0000"/>
                </a:solidFill>
                <a:uFillTx/>
                <a:latin typeface="Cambria"/>
              </a:rPr>
              <a:t>скуп делатности које унапређују здравствено стање становништва кроз спречавање сузбијање и рано дијагностиковање болести, повреда и других поремећаја здравља, правовремено и ефикасно лечење и рехабилитацију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Однос и изглед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днос је општи емоционални став који радник заузима према својим дужностима на послу, муштеријама, послодавцу и сарадницима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сновно правило за све запослене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 увек представљате ваше предузеће пред муштеријама или пацијентима. Запамтите да сте у апотеци, у правном смислу, ви заступник вашег послодавца, и да сте у обавези да пружите одговарајућу услугу пацијенту. Ваш послодаваца мора да “одговара” за сваку вашу акцију.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Професионалан изглед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ацијент очекује највиши степен чистоће и професионализма када улази у апотеку; он поверава своје и здравље своје породице особљу апотек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а себи имати пристојну одећу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увек имати чист, испеглан мантил, са беџом на коме је одштампано ваше им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чиста коса, са уредном фризуром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Реаговати на пацијент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ада пацијент уђе у апотеку, треба му се одмах обратити; никако га не треба оставити да сам, збуњено, погледом трага за запосленим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замислите како се осећате када сте у ресторану, а конобар не долази до вашег стола ни после неколико позив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Поштујте приватност пацијен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ноги лекови се примењују на скривеним регијама тела, и пацијентима је често непријатно да о томе говор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скреним, позитивним приступом, са поштовањем, без подсмеха или цинизма, треба дискретно подстаћи пацијента да искаже шта жел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оворити са пацијентом довољно гласно, али тако да остали у просторији не чују шта се говор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да од пацијента тражите додатне личне податке или објашњења, учините то дискретно, тако да други пацијенти то не чују или вид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Насмешите се и успоставите контакт очим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ацијента увек треба гледати у оч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добродушан осмех на лицу ће опустити пацијента, и олакшати му да искаже своје тегобе и потреб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већина људи сматра да гледање другога у очи док му се обраћате значи поштење, искреност и поштовањ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Будите љубазни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век се обраћати са “господине”, “госпођо”, “госпођице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68360" y="3141720"/>
          <a:ext cx="8229600" cy="3016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ОВАКО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ВЕЋ ОВА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 хоћет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 ли вам помоћ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о га тамо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о, сада ћу вам показат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је 125 динар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ће изнети 100 динара, моли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ећи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 ли помоћи следећем муштериј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Будите осетљиви на културне и језичке разлик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ако пацијент слабо познаје језик, говорите му полако, избегавајући сленг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тражите некога од запослених који добро говори језик којим пацијент говори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служите се цртежом да би боље комуницирали са пацијентом, ако је потребно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познајте културу људи који често долазе у вашу апотеку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Комуницирајте у оквиру своје компетентности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ледите радне процедуре које су важеће у апотеци у којој ради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ужите пацијенту само оне информације које су вам добро позна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 бојте се да признате да не знате оно што излази из ваше компетенц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икада пред пацијентима не оцењујте лекаре, фармацеуте или ваше колег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Комуникација телефоном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век започните разговор са “Добар дан”, а завршите са “Хвала на позиву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ажљиво слушајте и говорите мирним,природним гласом; глас треба да буде пријатељски, али не фамилијаран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ако неко добро не чује, стрпљиво поновите разговетно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а почетку разговора идентификујте себе и апотеку у којој радите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ајте само проверене информације преко телефона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Односи међу запосленим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запамтите: “да би вас други поштовали, неопходно је да их ви поштујете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увек задржите професионалан однос, концентришући се на садржину комуникације, а не на начин, који понекад може бити непримерен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икада не одговарајте на провокативна понашања, већ задржите професионалан однос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Franklin Gothic Book"/>
              </a:rPr>
              <a:t>Систем здравствене заштите у Србији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Здравствена заштита се остварује кроз здравствену делатност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Здравствена делатност подразумева </a:t>
            </a:r>
            <a:r>
              <a:rPr b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низ мера и активности које се заснивају на научним доказима, здравственој доктрини и употреби здравствених технологија, а са циљем да се очува и унапреди здравствено стање становништва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Професионално понашањ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оштовати професионалну хијерархију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збегавати фамилијарнос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иватни телефонски позиви и посете само у време пауз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е збијати шале на туђ рачун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е задирати у туђу приватнос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Вербална и невербална комуникациј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бро савладајте медицинску терминологиј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оворите граматички правилно, књижевним језико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оворите довољно гласно, без скраћеница и речи из сленг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ажљиво слушајте шта вам пацијенти говоре, и гледајте их у оч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удите стрпљив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ислите о пацијентима генерално позитивно и гајите искрену жељу да им помогнете: тада ће ваша невербална комуникација то одражават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Увреде и расправа са пацијентим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едозвољива је дискриминација пацијената по било ком основу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едозвољива је било каква увреда пацијент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а увреде не одговарајте против-увредам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увек покушајте да смирите и рационализујете ситуацију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5736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</a:rPr>
              <a:t>Фармацеутска здравствена заштита</a:t>
            </a:r>
            <a:br>
              <a:rPr sz="2800"/>
            </a:br>
            <a:r>
              <a:rPr b="0" lang="sr-CS" sz="2800" spc="-1" strike="noStrike">
                <a:solidFill>
                  <a:srgbClr val="ffffff"/>
                </a:solidFill>
                <a:latin typeface="Calibri"/>
              </a:rPr>
              <a:t> Фармацеутска делатност у установама примарне, секундарне и терцијарне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здравствене </a:t>
            </a:r>
            <a:r>
              <a:rPr b="0" lang="sr-CS" sz="2800" spc="-1" strike="noStrike">
                <a:solidFill>
                  <a:srgbClr val="ffffff"/>
                </a:solidFill>
                <a:latin typeface="Calibri"/>
              </a:rPr>
              <a:t>заштите</a:t>
            </a:r>
            <a:r>
              <a:rPr b="0" lang="sr-CS" sz="4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У фокусу здравствених се налази пацијент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звој модерних здравствених система је допринео и промени концепта бриге о здрављу, у смислу преузимања веће одговорности становништва, првенствено значајним унапређењем промоциjе здравља и здравствене неге, као и адекватније употребе ресурса у оквиру здравствених система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Хумани ресурси (лекари, фармацеути, стоматолози као и њихови сарадници) имају доминантну улогу у системима здравствене заштите становништва од којих се у модерним здравственим системима очекује виши степен интеракција, а у циљу унапређења здравственог стања пацијената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914400" y="151920"/>
            <a:ext cx="7772400" cy="63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себан аспект развоја се односи и на позицију фармацеута у модерним здравственим системима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радиционална улога фармацеута је примарно усмерена не производњу и издавање леков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У савременим здравственим системима фармацеутска делатност обухвата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мплекснији процес саветовања пацијената о употреби лекова и суплеменат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ктивно учешће у процесу лечења и мониторинга примењене терап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учешће у превенцији, лечењу и мониторингу хроничних незаразних болести и превенцији и лечењу заразних болест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омоцију здравља, превенцију дејстава различитих нокси из околине и лечење последица тровањ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914400" y="475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нцепт фармацеутске здравствене заштите (eng. pharmaceutical care) </a:t>
            </a:r>
            <a:r>
              <a:rPr b="0" lang="sr-RS" sz="2600" spc="-1" strike="noStrike">
                <a:solidFill>
                  <a:srgbClr val="000000"/>
                </a:solidFill>
                <a:latin typeface="Cambria"/>
              </a:rPr>
              <a:t>подразумева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ктивно и одговорно учешће фармацеута у процесу лечења пацијената са циљем остваривања унапред утврђених медицинских исхода који унапређују квалитет живота оболелих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нтеракције фармацеута како са пацијентима тако и са другим здравственим стручњацима у креирању, примени и надзору одређених терапијских процедура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фесионалне позиције фармацеута у савременом добу су значајне на свим нивоима здравствене заштите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68000" y="333360"/>
            <a:ext cx="82040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mbria"/>
              </a:rPr>
              <a:t>Рад у апотеци: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ипломирани фармацеут спроводи фармацеутску здравствену заштиту у оквиру апотека при домовима здравља на нивоу примарне здравствене заштите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 оквиру примарне здравствене заштите фармацеутска делатност је усмерена на процесе  издавање лекова на рецепт и без рецепта уз адекватно саветовање пацијената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омен рада са лековима у окружењу апотека у оквиру установа примарне здравствене заштите подразумева и процесе набавке лекова, адекватaн начин чувања и складиштења, припрему лекова, вођење и чување документације о сваком наведеном процесу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914400" y="692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ермин "community pharmacy“ описује позицију и делатност фармацеута у модерним здравственим системима и односи се на процесе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здавања лекова на рецепт и без рецепта ( (eng. Over-the-counter (OTC) - ОТЦ лекови који се издају без рецепта, на рачун,) уз адекватно саветовање пацијенат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зраде лека у фармацеутском облику и дози, а према индивидуалним потребама пацијената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авилне едукације пацијената о употреби лека или медицинског средств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авилног одабира показатеља (лабораторијских, клиничких) који се користе у мониторингу примењене терап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Систем здравствене заштите у Србиј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У спровођењу здравствене заштите учествују: пружаоци здравствене заштите, организације за здравствено осигурање, грађани, породица, послодавци, образовне али и друге установе,јединице локалне самоуправе,аутономне покрајине и  рс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900000" y="404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умачења исхода примењене терап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евалуације клиничких извештаја и рецепат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авовремене детекције и превенције евентуалних грешака које могу бити повезане са применом лека (дуплирање лекова, интеракције између лекова, присуство контраиндикација, нежељене реакције на лекове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омоције здравља и превентивних мера у циљу спречавања настанка акутних и хроничних болести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9144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Фармацеутска делатност у установама секундарне и терцијарне здравствене заштите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лога болничког фармацеута је сложениј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ред снабдевања болнице лековима подразумева и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чествовање у процесу лечењ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зраду галенских препарат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ткривање интеракција између леков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авовремену детекцију нежељених реакција на лекове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едукацију пацијената о примени лекова и медицинских средстав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аћење потрошње леков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зраду локалних терапијских протокол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ад са радиофармацеутицим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зраду фармакоекономских анализа за потребе болнице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чешће у раду регулаторних тела и различитих експертских група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Систем здравствене заштите у Србиј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истем здравствене заштите чине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равствен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е установе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Високошколске установе здравствене струке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У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танове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приватне праксе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равствени радници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равствени сарадници који обављају здравствену делатност у складу са законом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Организације за финансирање здравствене заштите.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Franklin Gothic Book"/>
              </a:rPr>
              <a:t>Систем здравствене заштите у Србији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сновна начела здравствене заштите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97240" indent="-597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Начело п</a:t>
            </a:r>
            <a:r>
              <a:rPr b="1" lang="en-US" sz="2400" spc="-1" strike="noStrike">
                <a:solidFill>
                  <a:srgbClr val="ff0000"/>
                </a:solidFill>
                <a:latin typeface="Perpetua"/>
              </a:rPr>
              <a:t>оштовања људских права и вредности права детета у</a:t>
            </a: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 здравствен</a:t>
            </a:r>
            <a:r>
              <a:rPr b="1" lang="en-US" sz="2400" spc="-1" strike="noStrike">
                <a:solidFill>
                  <a:srgbClr val="ff0000"/>
                </a:solidFill>
                <a:latin typeface="Perpetua"/>
              </a:rPr>
              <a:t>ој</a:t>
            </a: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 заштит</a:t>
            </a:r>
            <a:r>
              <a:rPr b="1" lang="en-US" sz="2400" spc="-1" strike="noStrike">
                <a:solidFill>
                  <a:srgbClr val="ff0000"/>
                </a:solidFill>
                <a:latin typeface="Perpetu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97240" indent="-597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Начело приступачности здравствене зашти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97240" indent="-597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Начело правичности здравствене зашти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97240" indent="-597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Начело свеобухватности здравствене зашти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97240" indent="-597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Начело континуираности здравствене зашти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97240" indent="-597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Начело сталног унапређења система здравствене зашти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97240" indent="-597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Начело ефикасности система здравствене зашти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r-CS" sz="2200" spc="-1" strike="noStrike">
                <a:solidFill>
                  <a:srgbClr val="ff0000"/>
                </a:solidFill>
                <a:latin typeface="Calibri"/>
              </a:rPr>
              <a:t>Начело п</a:t>
            </a:r>
            <a:r>
              <a:rPr b="1" lang="en-US" sz="2200" spc="-1" strike="noStrike">
                <a:solidFill>
                  <a:srgbClr val="ff0000"/>
                </a:solidFill>
                <a:latin typeface="Franklin Gothic Book"/>
              </a:rPr>
              <a:t>оштовања људских права и вредности права детета у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</a:rPr>
              <a:t> здравствен</a:t>
            </a:r>
            <a:r>
              <a:rPr b="1" lang="en-US" sz="2200" spc="-1" strike="noStrike">
                <a:solidFill>
                  <a:srgbClr val="ff0000"/>
                </a:solidFill>
                <a:latin typeface="Franklin Gothic Book"/>
              </a:rPr>
              <a:t>ој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</a:rPr>
              <a:t> заштит</a:t>
            </a:r>
            <a:r>
              <a:rPr b="1" lang="en-US" sz="2200" spc="-1" strike="noStrike">
                <a:solidFill>
                  <a:srgbClr val="ff0000"/>
                </a:solidFill>
                <a:latin typeface="Franklin Gothic Book"/>
              </a:rPr>
              <a:t>и</a:t>
            </a:r>
            <a:br>
              <a:rPr sz="2200"/>
            </a:br>
            <a:endParaRPr b="0" lang="en-US" sz="2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Пружање здравствене заштите подразумева се остварење највишег могућег стандарда људских права и вредности (право на живот, људско достојанство...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При пружању здравствене заштите детету најбољи интерес детета мора бити остварен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здравствена заштита детета мора бити прилагођена детету а право на правилан развој и заштита од свих облика насиља остварена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0:21:11Z</dcterms:created>
  <dc:creator>Bill Gates</dc:creator>
  <dc:description/>
  <dc:language>en-US</dc:language>
  <cp:lastModifiedBy>Marina Kostic</cp:lastModifiedBy>
  <dcterms:modified xsi:type="dcterms:W3CDTF">2023-08-30T09:24:33Z</dcterms:modified>
  <cp:revision>79</cp:revision>
  <dc:subject/>
  <dc:title>Систем здравствене заштите у Србији   (организација примарне, секундарне и терцијалне здраавствене заштите, видови здравственог осигурања, начин уговарања здравствених услуг са здравственим установама, принципи упућивања пацијената).</dc:title>
</cp:coreProperties>
</file>